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5.gif" ContentType="image/gif"/>
  <Override PartName="/ppt/media/type.wav" ContentType="audio/x-wav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drumroll.wav" ContentType="audio/x-wav"/>
  <Override PartName="/ppt/media/image7.gif" ContentType="image/gif"/>
  <Override PartName="/ppt/media/image4.png" ContentType="image/png"/>
  <Override PartName="/ppt/media/image6.gif" ContentType="image/gif"/>
  <Override PartName="/ppt/media/image5.png" ContentType="image/pn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21A-B67F-48DA-B83F-32FB22EC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0A1-8ACA-4C38-A187-8D1619F9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859-FA00-43AE-B4D5-60CA93F3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9A9-064A-4B33-A2B3-7023B114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285E-C778-4927-9080-AAF17453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096A-9382-4DEA-9A27-807FCC34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3605-71FE-4203-A89F-83419D0E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2D8D-B88B-49A0-8ED0-BA7384C7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0052-67C8-48B1-B608-8057EFE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49BE-AA6B-4D5A-BCFC-78393A83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B5D2-8735-4353-A3E5-63FBEE3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7BA-86C0-4462-8626-1F24C9E0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F4A0-EAE4-493B-9CAF-85069C46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DE46-4DC9-4A99-B37B-B8B582E3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85DA-6846-4254-8FB1-1BF8D632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7321-87E0-40F7-87DC-ED2CEEE1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2160-2E66-4FAD-8316-F5184787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B443-2B1A-4648-B96E-C4D471ED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42D2-6DDF-47FB-A5AF-F0581ADA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AF4A-B790-4F94-A896-20BD9C09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9CC5-CCD5-46B4-8ADE-26945A6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E65E-6F27-4527-83A1-A66D5D58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A25-F74D-4B3E-A357-66452C28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A09B-C6DE-4ED4-9270-AAB4718D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A0D9-7F57-4D55-B18B-02D59B97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F281-ED86-4C1F-87AB-082B7D4F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F064-8A6E-4FA2-88C4-CF1DCDB5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3275-95BE-4422-8C86-1CF8E5CC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60FB-C3A3-41DF-8735-FAA4BA27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AF82-A1A5-4A32-820B-A852566E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26A-7628-47E5-A184-12FE471D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46F-6525-4321-962B-FA1A0ED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800-5FA2-46CC-81F8-BF29E4CE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9CB-180A-4C1D-A748-79A33E10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298-715A-43E9-ADBF-2D895D6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0F6-E39A-4878-B889-54A8E7D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C892-7830-4B57-A5A8-8ADD5CC3C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F8FE-DB95-49A6-B90C-5ACFB187F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2B0-264E-4756-9673-4D8C6AA0E2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52360" y="-316080"/>
            <a:ext cx="8639280" cy="3095640"/>
            <a:chOff x="252360" y="-316080"/>
            <a:chExt cx="8639280" cy="309564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52360" y="444240"/>
              <a:ext cx="863928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68360" y="-316080"/>
              <a:ext cx="4104000" cy="3095640"/>
            </a:xfrm>
            <a:prstGeom prst="horizont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议题导入</a:t>
              </a:r>
              <a:endParaRPr b="0" lang="en-US" sz="6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951200" y="278748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一、你如何看待现在社会上已经闹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沸沸扬扬的“问题毒奶粉”事件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25120" y="4653000"/>
            <a:ext cx="603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二、据报道，九月份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名高官被免职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2008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年成“行政问责年” ，缘何？？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39840" y="333360"/>
            <a:ext cx="880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把垃圾及时倒进垃圾容器中，且不可乱倒；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④捡拾地面上废弃物。要有随手捡拾地面上废弃物的意识和习惯，共同维护学校环境的整洁；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⑤不把包装袋带进校园。每个人都保证做到不把包装袋带进校园，从根本上杜绝乱扔乱丢现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72960" y="54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从生活角度来说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31596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⑴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生不能着超短裙或太露的衣服，上衣不能过短，领口不能过低，不准穿紧身衣裤，不穿高跟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⑵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男生不能穿短裤、着背心上学，不留长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47120" y="148428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一、要有良好的仪容、仪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11592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⑶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男女生着装都要符合中学生身份，不穿奇装异服，要遵循朴素大方、实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美观的原则，不佩戴任何首饰（如戒指、耳环、耳针、项链等）、不染烫头发、不染指甲、不文身、不穿拖鞋，上体育课时，要穿运动服、运动鞋，要充分体现中学生的精神面貌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08400" y="436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二、不抽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40280" y="52354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三、不讲粗言秽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57600" y="40464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四、男女同学之间的交往要文明，不能过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亲密，杜绝早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280" y="368064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早恋对中学生的学习影响极大。成千上万的实例告诉我们，沉湎于早恋的同学多数都是沿着“感情直线上升，成绩直线下降”的轨迹运动的。然而，有些向往或陷入早恋的中学生却认为只要热恋的两个人志同道合，就不会影响学习。他们甚至概括出一个所谓“男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＝两个人的合力”的公式来。大量事实表明，这种看法是幼稚、糊涂、错误的。这是因为在早恋的小河中常常会波澜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55680" y="404640"/>
            <a:ext cx="868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起，漩涡环生——早恋的中学生时常要经受“白眼”和失败的折磨！这对于涉世不深、意志薄弱、情感易于冲动的中学生本来就是一种“超负荷”运载。在早恋的沉重的几乎要压垮全部稚嫩心灵的超负荷运载下，无心学习，成绩下降，是十分自然的，也是屡见不鲜的，甚至有些人因此走上了犯罪的道路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47840" y="1542600"/>
            <a:ext cx="85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从学习角度来说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43760" y="2565360"/>
            <a:ext cx="285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培养认真学习、善于思考、勤于动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动手动口的习惯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培养独立学习、主动探索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积极进取的习惯。</a:t>
            </a:r>
            <a:r>
              <a:rPr b="0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95280" y="1413000"/>
            <a:ext cx="74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自尊   自爱   自律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</a:t>
            </a: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自信  自强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698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华文行楷"/>
              </a:rPr>
              <a:t>家庭责任与爱同行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349360"/>
            <a:ext cx="79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无论环境是好是坏，是富贵是贫贱，是健康是疾病，是成功是失败。我都要支持你、爱护你、与你同甘共苦，一直到我离世的那天。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7632720" cy="5084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24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320" y="0"/>
            <a:ext cx="5486400" cy="1828800"/>
          </a:xfrm>
          <a:prstGeom prst="ellipse">
            <a:avLst/>
          </a:prstGeom>
          <a:solidFill>
            <a:srgbClr val="99cc00"/>
          </a:solidFill>
          <a:ln w="3492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508480"/>
            <a:ext cx="8458200" cy="32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作为儿女我们又应怎样做</a:t>
            </a:r>
            <a:r>
              <a:rPr b="1" lang="zh-CN" sz="7200" spc="-1" strike="noStrike">
                <a:solidFill>
                  <a:srgbClr val="333333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762120"/>
            <a:ext cx="40388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谈一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514600" y="1905120"/>
            <a:ext cx="76320" cy="609480"/>
          </a:xfrm>
          <a:prstGeom prst="line">
            <a:avLst/>
          </a:prstGeom>
          <a:ln w="34920">
            <a:solidFill>
              <a:srgbClr val="7d7da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6120" y="0"/>
            <a:ext cx="1399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荣誉的背后</a:t>
            </a:r>
            <a:r>
              <a:rPr b="1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--</a:t>
            </a:r>
            <a:r>
              <a:rPr b="1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对集体的责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189000"/>
            <a:ext cx="86421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知责任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明责任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负责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3876840" y="4856040"/>
            <a:ext cx="31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高二（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）班主题班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320" y="0"/>
            <a:ext cx="5486400" cy="1828800"/>
          </a:xfrm>
          <a:prstGeom prst="ellipse">
            <a:avLst/>
          </a:prstGeom>
          <a:solidFill>
            <a:srgbClr val="99cc00"/>
          </a:solidFill>
          <a:ln w="3492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508480"/>
            <a:ext cx="8458200" cy="32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作为十六中高二（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4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）班的一分子我们应怎样做</a:t>
            </a:r>
            <a:r>
              <a:rPr b="1" lang="zh-CN" sz="7200" spc="-1" strike="noStrike">
                <a:solidFill>
                  <a:srgbClr val="333333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762120"/>
            <a:ext cx="40388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谈一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1905120"/>
            <a:ext cx="76320" cy="609480"/>
          </a:xfrm>
          <a:prstGeom prst="line">
            <a:avLst/>
          </a:prstGeom>
          <a:ln w="34920">
            <a:solidFill>
              <a:srgbClr val="7d7da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社会文明、和谐源自对社会负责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5003640" cy="4041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4356000" cy="40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WindowsMediaPlayer1"/>
          <p:cNvGraphicFramePr/>
          <p:nvPr/>
        </p:nvGraphicFramePr>
        <p:xfrm>
          <a:off x="7267680" y="5734080"/>
          <a:ext cx="18763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67680" y="5734080"/>
                    <a:ext cx="1876320" cy="112392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8" name="WindowsMediaPlayer2"/>
          <p:cNvGraphicFramePr/>
          <p:nvPr/>
        </p:nvGraphicFramePr>
        <p:xfrm>
          <a:off x="5511960" y="5877000"/>
          <a:ext cx="17240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" name="WindowsMediaPlayer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11960" y="5877000"/>
                    <a:ext cx="1724040" cy="98100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748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92280"/>
            <a:ext cx="8216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华文行楷"/>
                <a:ea typeface="华文行楷"/>
              </a:rPr>
              <a:t>第三篇章</a:t>
            </a: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   </a:t>
            </a:r>
            <a:r>
              <a:rPr b="1" lang="zh-CN" sz="9600" spc="-1" strike="noStrike">
                <a:solidFill>
                  <a:srgbClr val="0000cc"/>
                </a:solidFill>
                <a:latin typeface="隶书"/>
                <a:ea typeface="隶书"/>
              </a:rPr>
              <a:t>负 责 任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大连一名公交车司机黄志全，行车途中突发心脏病，在生命的最后一分钟，他做了三件事：把车缓缓地停在马路边，并用生命的最后力气拉下了手动刹车闸；把车门打开，让乘客安全地下了车；将发动机熄火，确保了车和乘客、行人的安全。他做完了三件事，安详地趴在方向盘上停止了呼吸。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负起责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负责任的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事负起责任是一个人应具备的基本品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现代社会更需要人们增强责任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一）做人要有责任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480" y="342900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二）不负责任害人害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三）做事认真负责，勇于承担责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464832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首先要对自己承担的事尽心尽力、认真负责的完成。  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还要在出现问题时勇于承担责任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不推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75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75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75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75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75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75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75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874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下兴亡，匹夫有责。——顾炎武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先天下之忧而忧，后天下之乐而乐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——范仲淹《岳阳楼记》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责任就是对自己要求去做的事情有一种爱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德国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歌德《格言与感想》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责任并不是一种由外部强加在人身上的义务，而是我需要对我所关心的事情作出反应。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美国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弗洛姆《为自己的人》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责任心就是关心别人，关心整个社会。有了责任心，生活就有了真正的含义和灵魂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科威特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穆尼尔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纳素夫《愿你生活更美好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87280" y="333360"/>
            <a:ext cx="345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格言</a:t>
            </a:r>
            <a:endParaRPr b="1" i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2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97000" y="881280"/>
            <a:ext cx="1134720" cy="5187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3492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7800" y="682560"/>
            <a:ext cx="1511280" cy="5410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6699"/>
              </a:gs>
              <a:gs pos="50000">
                <a:srgbClr val="ffffff"/>
              </a:gs>
              <a:gs pos="100000">
                <a:srgbClr val="ff6699"/>
              </a:gs>
            </a:gsLst>
            <a:lin ang="10800000"/>
          </a:grad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1353960"/>
            <a:ext cx="6121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我宣誓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在人生的道路上，让责任伴我成长，做一个勇于承担责任的人，让责任引领我的人生，让我的一生充实快乐、无怨无悔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宣誓人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2008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年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10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月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6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日</a:t>
            </a:r>
            <a:r>
              <a:rPr b="0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                                                                                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-2700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铭 记 责 任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645000"/>
            <a:ext cx="756144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4280"/>
            <a:ext cx="50403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第一篇章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[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知责任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]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16872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行楷"/>
                <a:ea typeface="华文行楷"/>
              </a:rPr>
              <a:t>什么是责任？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609300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600200" y="549360"/>
            <a:ext cx="4226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责任的涵义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206064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隶书"/>
              </a:rPr>
              <a:t>一 是指份内应做的事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3429000"/>
            <a:ext cx="6705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隶书"/>
              </a:rPr>
              <a:t>二 是指因没有做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份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隶书"/>
              </a:rPr>
              <a:t>内应做的事而应承担的过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781680" y="525780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141264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隶书"/>
              </a:rPr>
              <a:t>第二篇章</a:t>
            </a:r>
            <a:br>
              <a:rPr sz="6600"/>
            </a:br>
            <a:br>
              <a:rPr sz="4000"/>
            </a:b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明责任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]</a:t>
            </a:r>
            <a:br>
              <a:rPr sz="5400"/>
            </a:b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96640" y="4986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自己负责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96640" y="4123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学校负责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0560" y="335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家庭负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1960" y="498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集体负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67560" y="4148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社会负责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67560" y="3304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国家负责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58920" y="0"/>
            <a:ext cx="6265800" cy="6669000"/>
          </a:xfrm>
          <a:prstGeom prst="donut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270828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隶书"/>
              </a:rPr>
              <a:t>自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4815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集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4920" y="220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家庭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476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社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62640" y="23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国家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9952400">
            <a:off x="5138280" y="2747520"/>
            <a:ext cx="1079640" cy="432000"/>
          </a:xfrm>
          <a:prstGeom prst="rightArrow">
            <a:avLst>
              <a:gd name="adj1" fmla="val 50000"/>
              <a:gd name="adj2" fmla="val 62479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786800">
            <a:off x="3492360" y="3789360"/>
            <a:ext cx="432000" cy="1224000"/>
          </a:xfrm>
          <a:prstGeom prst="downArrow">
            <a:avLst>
              <a:gd name="adj1" fmla="val 50000"/>
              <a:gd name="adj2" fmla="val 70925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480800">
            <a:off x="2626920" y="2677680"/>
            <a:ext cx="1008000" cy="4320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1413000"/>
            <a:ext cx="431640" cy="1079280"/>
          </a:xfrm>
          <a:prstGeom prst="upArrow">
            <a:avLst>
              <a:gd name="adj1" fmla="val 50000"/>
              <a:gd name="adj2" fmla="val 62510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37320" y="481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学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650600">
            <a:off x="5076720" y="3715920"/>
            <a:ext cx="432000" cy="1224000"/>
          </a:xfrm>
          <a:prstGeom prst="downArrow">
            <a:avLst>
              <a:gd name="adj1" fmla="val 50000"/>
              <a:gd name="adj2" fmla="val 70925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87280" y="242100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生命、身体、安全、健康、形象、思想、心灵、情感、尊严、人格、言行、现在、未来、一生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19280" y="549360"/>
            <a:ext cx="5489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>
                    <a:alpha val="89000"/>
                  </a:srgbClr>
                </a:solidFill>
                <a:latin typeface="华文行楷"/>
              </a:rPr>
              <a:t>对自己的责任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>
                  <a:alpha val="89000"/>
                </a:srgbClr>
              </a:solidFill>
              <a:latin typeface="华文行楷"/>
              <a:ea typeface="华文行楷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1619280" cy="1349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948360" y="1125360"/>
            <a:ext cx="1656000" cy="13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320" y="0"/>
            <a:ext cx="5486400" cy="1828800"/>
          </a:xfrm>
          <a:prstGeom prst="ellipse">
            <a:avLst/>
          </a:prstGeom>
          <a:solidFill>
            <a:srgbClr val="99cc00"/>
          </a:solidFill>
          <a:ln w="3492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508480"/>
            <a:ext cx="8458200" cy="32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作为学生我们应怎样做</a:t>
            </a:r>
            <a:r>
              <a:rPr b="1" lang="zh-CN" sz="7200" spc="-1" strike="noStrike">
                <a:solidFill>
                  <a:srgbClr val="333333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09480" y="762120"/>
            <a:ext cx="40388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谈一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600" y="1905120"/>
            <a:ext cx="76320" cy="609480"/>
          </a:xfrm>
          <a:prstGeom prst="line">
            <a:avLst/>
          </a:prstGeom>
          <a:ln w="34920">
            <a:solidFill>
              <a:srgbClr val="7d7da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2052720"/>
            <a:ext cx="886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从卫生角度来说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①要养成不随地吐痰的习惯。确因感冒克服不了的，应该准备纸巾，吐在纸上，再扔进垃圾桶；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②要努力克服随手乱丢的坏习惯。要把废纸、果皮、包装袋扔进垃圾桶中，特别要杜绝从楼上往楼下扔东西的不道德行为；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③要努力克服乱倒垃圾的坏习惯。在卫生保洁或值日时，无论走再远的路，都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0:16:1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1:03Z</dcterms:modified>
  <cp:revision>35</cp:revision>
  <dc:subject>主题班会课件(分28大类): http://shop62905894.taobao.com</dc:subject>
  <dc:title>主题班会课件(分28大类): http://shop62905894.taobao.com</dc:title>
</cp:coreProperties>
</file>